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496DAF-825B-4B03-99FA-F7CC58B1AEC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7F93AF-679B-47A5-8BF4-2EA6C96BC21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59031A-5401-49EF-809F-D3093E65F76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A72EFA-683A-4130-8FA1-50BE556287E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C024A3-DAF6-45C5-B41E-58FEAE22E2A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6FB12D-3FA0-43CB-B1BC-8CF519E2ABC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64BB12-AE5C-470C-922B-BB78FFA8807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A5B4A4-3B96-4B50-A7F9-7556AFF11A6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65744D-9C98-4E7B-8087-33A1A9243E5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227E1D-7518-4424-A301-ECFA2AB1AA6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7CE5A0-2E2E-443B-BBD4-912E9E395A1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90972E-8C14-4A66-B22B-EE9E640C313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15C25A-B681-4EF0-934B-C7C1FB7BAD6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C51BE5-8182-48EF-A125-BCB84EB9FE0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37B9E3-E2E9-444D-93DF-6943ECB9C18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B1C56A-88C4-4613-BE27-E6C48CFBA33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F66B51-17E1-40B1-8051-5C79FEEEC0E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58D20-50A6-4149-8DF1-94656C4973D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84AD66-9346-47A6-943A-A98BF8AB286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3AFEA4A8-D0EC-49B6-83EB-29251B9B11F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26C-27B7-41F8-AE1C-6D27A665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932-AAB0-451F-A075-8A44F2D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E5E-024C-4A1F-AD2C-B523F250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763-0A0F-4132-BD55-16780BD4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9B8-7073-4853-96C5-191336C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E9B-EECC-4F75-ABC9-4143EEA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F7C-7E58-4BFB-96B9-311FA28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286-7F00-443B-812B-250C5AE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0A4-79FA-4F4B-BEC6-7AC85A8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F4E-0B86-40BD-9162-279637E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462-4A50-43CC-8455-FDAE8CD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4F3-634C-4E7E-8631-B54236E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21A60-6235-4CB7-B8C8-8FDD5B95316A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o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Imagen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CuadroTexto 7"/>
            <p:cNvSpPr/>
            <p:nvPr/>
          </p:nvSpPr>
          <p:spPr>
            <a:xfrm>
              <a:off x="121680" y="548640"/>
              <a:ext cx="4193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CuadroTexto 8"/>
            <p:cNvSpPr/>
            <p:nvPr/>
          </p:nvSpPr>
          <p:spPr>
            <a:xfrm>
              <a:off x="4454640" y="542160"/>
              <a:ext cx="4565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 No-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CuadroTexto 2" descr=""/>
          <p:cNvPicPr/>
          <p:nvPr/>
        </p:nvPicPr>
        <p:blipFill>
          <a:blip r:embed="rId2"/>
          <a:stretch/>
        </p:blipFill>
        <p:spPr>
          <a:xfrm>
            <a:off x="176040" y="1195560"/>
            <a:ext cx="824040" cy="925200"/>
          </a:xfrm>
          <a:prstGeom prst="rect">
            <a:avLst/>
          </a:prstGeom>
          <a:ln w="0">
            <a:noFill/>
          </a:ln>
        </p:spPr>
      </p:pic>
      <p:pic>
        <p:nvPicPr>
          <p:cNvPr id="171" name="CuadroTexto 3" descr=""/>
          <p:cNvPicPr/>
          <p:nvPr/>
        </p:nvPicPr>
        <p:blipFill>
          <a:blip r:embed="rId3"/>
          <a:stretch/>
        </p:blipFill>
        <p:spPr>
          <a:xfrm>
            <a:off x="4498920" y="1195560"/>
            <a:ext cx="82224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Flecha doblada 4"/>
          <p:cNvSpPr/>
          <p:nvPr/>
        </p:nvSpPr>
        <p:spPr>
          <a:xfrm>
            <a:off x="4176720" y="981000"/>
            <a:ext cx="790560" cy="4608720"/>
          </a:xfrm>
          <a:custGeom>
            <a:avLst/>
            <a:gdLst/>
            <a:ahLst/>
            <a:rect l="l" t="t" r="r" b="b"/>
            <a:pathLst>
              <a:path w="792088" h="4608512">
                <a:moveTo>
                  <a:pt x="0" y="4608512"/>
                </a:moveTo>
                <a:lnTo>
                  <a:pt x="0" y="445550"/>
                </a:lnTo>
                <a:cubicBezTo>
                  <a:pt x="0" y="254162"/>
                  <a:pt x="155151" y="99011"/>
                  <a:pt x="346539" y="99011"/>
                </a:cubicBezTo>
                <a:lnTo>
                  <a:pt x="594066" y="99011"/>
                </a:lnTo>
                <a:lnTo>
                  <a:pt x="594066" y="0"/>
                </a:lnTo>
                <a:lnTo>
                  <a:pt x="792088" y="198022"/>
                </a:lnTo>
                <a:lnTo>
                  <a:pt x="594066" y="396044"/>
                </a:lnTo>
                <a:lnTo>
                  <a:pt x="594066" y="297033"/>
                </a:lnTo>
                <a:lnTo>
                  <a:pt x="346539" y="297033"/>
                </a:lnTo>
                <a:cubicBezTo>
                  <a:pt x="264515" y="297033"/>
                  <a:pt x="198022" y="363526"/>
                  <a:pt x="198022" y="445550"/>
                </a:cubicBezTo>
                <a:lnTo>
                  <a:pt x="198022" y="4608512"/>
                </a:lnTo>
                <a:lnTo>
                  <a:pt x="0" y="4608512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ipse 5"/>
          <p:cNvSpPr/>
          <p:nvPr/>
        </p:nvSpPr>
        <p:spPr>
          <a:xfrm>
            <a:off x="1258920" y="5229360"/>
            <a:ext cx="1944720" cy="72072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lipse 6"/>
          <p:cNvSpPr/>
          <p:nvPr/>
        </p:nvSpPr>
        <p:spPr>
          <a:xfrm>
            <a:off x="5646600" y="907920"/>
            <a:ext cx="1944720" cy="43344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81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85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9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98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201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204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209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18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21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24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28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29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32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4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35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38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43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51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52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55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60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63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64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66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71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3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77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34 fase oxid de VP"/>
          <p:cNvPicPr/>
          <p:nvPr/>
        </p:nvPicPr>
        <p:blipFill>
          <a:blip r:embed="rId1"/>
          <a:srcRect l="0" t="37175" r="0" b="0"/>
          <a:stretch/>
        </p:blipFill>
        <p:spPr>
          <a:xfrm>
            <a:off x="222120" y="1557360"/>
            <a:ext cx="8699760" cy="1946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9"/>
          <p:cNvGrpSpPr/>
          <p:nvPr/>
        </p:nvGrpSpPr>
        <p:grpSpPr>
          <a:xfrm>
            <a:off x="1403280" y="2421000"/>
            <a:ext cx="1081080" cy="1728720"/>
            <a:chOff x="1403280" y="2421000"/>
            <a:chExt cx="1081080" cy="1728720"/>
          </a:xfrm>
        </p:grpSpPr>
        <p:sp>
          <p:nvSpPr>
            <p:cNvPr id="285" name="Rectangle 6"/>
            <p:cNvSpPr/>
            <p:nvPr/>
          </p:nvSpPr>
          <p:spPr>
            <a:xfrm>
              <a:off x="1403280" y="2421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1908000" y="2924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8"/>
          <p:cNvSpPr/>
          <p:nvPr/>
        </p:nvSpPr>
        <p:spPr>
          <a:xfrm>
            <a:off x="324000" y="4241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357800" y="3789360"/>
            <a:ext cx="4522680" cy="847440"/>
            <a:chOff x="4357800" y="3789360"/>
            <a:chExt cx="4522680" cy="847440"/>
          </a:xfrm>
        </p:grpSpPr>
        <p:sp>
          <p:nvSpPr>
            <p:cNvPr id="289" name="Line 10"/>
            <p:cNvSpPr/>
            <p:nvPr/>
          </p:nvSpPr>
          <p:spPr>
            <a:xfrm flipV="1">
              <a:off x="4357800" y="4005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4939920" y="3789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19 Grupo"/>
          <p:cNvGrpSpPr/>
          <p:nvPr/>
        </p:nvGrpSpPr>
        <p:grpSpPr>
          <a:xfrm>
            <a:off x="4384800" y="4280040"/>
            <a:ext cx="2874960" cy="379440"/>
            <a:chOff x="4384800" y="4280040"/>
            <a:chExt cx="2874960" cy="379440"/>
          </a:xfrm>
        </p:grpSpPr>
        <p:sp>
          <p:nvSpPr>
            <p:cNvPr id="292" name="Line 15"/>
            <p:cNvSpPr/>
            <p:nvPr/>
          </p:nvSpPr>
          <p:spPr>
            <a:xfrm flipV="1">
              <a:off x="4384800" y="4443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52680" y="4280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18 Grupo"/>
          <p:cNvGrpSpPr/>
          <p:nvPr/>
        </p:nvGrpSpPr>
        <p:grpSpPr>
          <a:xfrm>
            <a:off x="4286160" y="4800600"/>
            <a:ext cx="4348800" cy="337320"/>
            <a:chOff x="4286160" y="4800600"/>
            <a:chExt cx="4348800" cy="337320"/>
          </a:xfrm>
        </p:grpSpPr>
        <p:sp>
          <p:nvSpPr>
            <p:cNvPr id="295" name="Text Box 13"/>
            <p:cNvSpPr/>
            <p:nvPr/>
          </p:nvSpPr>
          <p:spPr>
            <a:xfrm>
              <a:off x="5179320" y="4800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4286160" y="4851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20"/>
          <p:cNvSpPr/>
          <p:nvPr/>
        </p:nvSpPr>
        <p:spPr>
          <a:xfrm>
            <a:off x="762840" y="6508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99400" cy="3098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0"/>
          <p:cNvSpPr/>
          <p:nvPr/>
        </p:nvSpPr>
        <p:spPr>
          <a:xfrm>
            <a:off x="503280" y="404640"/>
            <a:ext cx="81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Utilidades metabólicas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CuadroTexto 4"/>
          <p:cNvSpPr/>
          <p:nvPr/>
        </p:nvSpPr>
        <p:spPr>
          <a:xfrm>
            <a:off x="2873520" y="1700280"/>
            <a:ext cx="345600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Capacidad reductora para la biosíntesis de, por ej., ácidos grasos, colesterol, hormonas esteroidea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Conector recto de flecha 6"/>
          <p:cNvCxnSpPr/>
          <p:nvPr/>
        </p:nvCxnSpPr>
        <p:spPr>
          <a:xfrm flipV="1">
            <a:off x="2484000" y="2439720"/>
            <a:ext cx="864360" cy="413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Conector recto de flecha 7"/>
          <p:cNvCxnSpPr/>
          <p:nvPr/>
        </p:nvCxnSpPr>
        <p:spPr>
          <a:xfrm flipH="1" flipV="1">
            <a:off x="6084000" y="2466360"/>
            <a:ext cx="791640" cy="386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Rectángulo redondeado 11"/>
          <p:cNvSpPr/>
          <p:nvPr/>
        </p:nvSpPr>
        <p:spPr>
          <a:xfrm>
            <a:off x="1908000" y="2852640"/>
            <a:ext cx="5763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ángulo redondeado 12"/>
          <p:cNvSpPr/>
          <p:nvPr/>
        </p:nvSpPr>
        <p:spPr>
          <a:xfrm>
            <a:off x="6875640" y="2852640"/>
            <a:ext cx="5745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o 2"/>
          <p:cNvGrpSpPr/>
          <p:nvPr/>
        </p:nvGrpSpPr>
        <p:grpSpPr>
          <a:xfrm>
            <a:off x="395280" y="260280"/>
            <a:ext cx="8353440" cy="6432480"/>
            <a:chOff x="395280" y="260280"/>
            <a:chExt cx="8353440" cy="6432480"/>
          </a:xfrm>
        </p:grpSpPr>
        <p:pic>
          <p:nvPicPr>
            <p:cNvPr id="306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35344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ángulo 1"/>
            <p:cNvSpPr/>
            <p:nvPr/>
          </p:nvSpPr>
          <p:spPr>
            <a:xfrm>
              <a:off x="6076080" y="3328920"/>
              <a:ext cx="2305080" cy="285480"/>
            </a:xfrm>
            <a:prstGeom prst="rect">
              <a:avLst/>
            </a:prstGeom>
            <a:solidFill>
              <a:srgbClr val="dfb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ángulo redondeado 1"/>
          <p:cNvSpPr/>
          <p:nvPr/>
        </p:nvSpPr>
        <p:spPr>
          <a:xfrm>
            <a:off x="5148360" y="1700280"/>
            <a:ext cx="863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ángulo redondeado 5"/>
          <p:cNvSpPr/>
          <p:nvPr/>
        </p:nvSpPr>
        <p:spPr>
          <a:xfrm>
            <a:off x="6372360" y="1736640"/>
            <a:ext cx="1512720" cy="46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ángulo redondeado 6"/>
          <p:cNvSpPr/>
          <p:nvPr/>
        </p:nvSpPr>
        <p:spPr>
          <a:xfrm>
            <a:off x="4356000" y="3105000"/>
            <a:ext cx="1656000" cy="313236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132360"/>
              <a:gd name="textAreaBottom" fmla="*/ 3051720 h 3132360"/>
            </a:gdLst>
            <a:ahLst/>
            <a:rect l="textAreaLeft" t="textAreaTop" r="textAreaRight" b="textAreaBottom"/>
            <a:pathLst>
              <a:path w="21600" h="40853">
                <a:moveTo>
                  <a:pt x="3600" y="0"/>
                </a:moveTo>
                <a:arcTo wR="3600" hR="3600" stAng="16200000" swAng="-5400000"/>
                <a:lnTo>
                  <a:pt x="0" y="37253"/>
                </a:lnTo>
                <a:arcTo wR="3600" hR="3600" stAng="10800000" swAng="-5400000"/>
                <a:lnTo>
                  <a:pt x="18000" y="40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ángulo redondeado 7"/>
          <p:cNvSpPr/>
          <p:nvPr/>
        </p:nvSpPr>
        <p:spPr>
          <a:xfrm>
            <a:off x="5859360" y="6372360"/>
            <a:ext cx="101628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ángulo redondeado 8"/>
          <p:cNvSpPr/>
          <p:nvPr/>
        </p:nvSpPr>
        <p:spPr>
          <a:xfrm>
            <a:off x="1692360" y="4292640"/>
            <a:ext cx="101592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15"/>
          <p:cNvGrpSpPr/>
          <p:nvPr/>
        </p:nvGrpSpPr>
        <p:grpSpPr>
          <a:xfrm>
            <a:off x="684360" y="850320"/>
            <a:ext cx="7848360" cy="5737680"/>
            <a:chOff x="684360" y="850320"/>
            <a:chExt cx="7848360" cy="5737680"/>
          </a:xfrm>
        </p:grpSpPr>
        <p:pic>
          <p:nvPicPr>
            <p:cNvPr id="318" name="Imagen 1" descr=""/>
            <p:cNvPicPr/>
            <p:nvPr/>
          </p:nvPicPr>
          <p:blipFill>
            <a:blip r:embed="rId1"/>
            <a:srcRect l="0" t="0" r="38719" b="0"/>
            <a:stretch/>
          </p:blipFill>
          <p:spPr>
            <a:xfrm>
              <a:off x="684360" y="852840"/>
              <a:ext cx="7848360" cy="5735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319" name="CuadroTexto 14"/>
            <p:cNvSpPr/>
            <p:nvPr/>
          </p:nvSpPr>
          <p:spPr>
            <a:xfrm>
              <a:off x="3060360" y="850320"/>
              <a:ext cx="2880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Reacciones Oxidativas de la Vía de las Pentos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0" name="Conector recto de flecha 3"/>
          <p:cNvCxnSpPr/>
          <p:nvPr/>
        </p:nvCxnSpPr>
        <p:spPr>
          <a:xfrm>
            <a:off x="5724000" y="2636640"/>
            <a:ext cx="793080" cy="115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1" name="Rectángulo 4"/>
          <p:cNvSpPr/>
          <p:nvPr/>
        </p:nvSpPr>
        <p:spPr>
          <a:xfrm>
            <a:off x="5724360" y="2205000"/>
            <a:ext cx="71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Conector recto de flecha 5"/>
          <p:cNvCxnSpPr/>
          <p:nvPr/>
        </p:nvCxnSpPr>
        <p:spPr>
          <a:xfrm>
            <a:off x="6875280" y="2852280"/>
            <a:ext cx="1080" cy="793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3" name="Conector recto de flecha 8"/>
          <p:cNvCxnSpPr/>
          <p:nvPr/>
        </p:nvCxnSpPr>
        <p:spPr>
          <a:xfrm>
            <a:off x="6875280" y="414936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4" name="Conector recto de flecha 9"/>
          <p:cNvCxnSpPr/>
          <p:nvPr/>
        </p:nvCxnSpPr>
        <p:spPr>
          <a:xfrm>
            <a:off x="6875280" y="4508280"/>
            <a:ext cx="1080" cy="4338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5" name="Conector recto de flecha 10"/>
          <p:cNvCxnSpPr/>
          <p:nvPr/>
        </p:nvCxnSpPr>
        <p:spPr>
          <a:xfrm>
            <a:off x="6875280" y="4941720"/>
            <a:ext cx="108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6" name="Conector recto de flecha 11"/>
          <p:cNvCxnSpPr/>
          <p:nvPr/>
        </p:nvCxnSpPr>
        <p:spPr>
          <a:xfrm>
            <a:off x="6948000" y="587664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7" name="Rectángulo 12"/>
          <p:cNvSpPr/>
          <p:nvPr/>
        </p:nvSpPr>
        <p:spPr>
          <a:xfrm>
            <a:off x="7093080" y="4141800"/>
            <a:ext cx="143964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V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rco 13"/>
          <p:cNvSpPr/>
          <p:nvPr/>
        </p:nvSpPr>
        <p:spPr>
          <a:xfrm>
            <a:off x="2050920" y="1413000"/>
            <a:ext cx="4753080" cy="2087280"/>
          </a:xfrm>
          <a:custGeom>
            <a:avLst/>
            <a:gdLst/>
            <a:ahLst/>
            <a:rect l="l" t="t" r="r" b="b"/>
            <a:pathLst>
              <a:path stroke="0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  <a:lnTo>
                  <a:pt x="2376264" y="1044116"/>
                </a:lnTo>
                <a:lnTo>
                  <a:pt x="85660" y="766301"/>
                </a:lnTo>
                <a:close/>
              </a:path>
              <a:path fill="none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</a:path>
            </a:pathLst>
          </a:custGeom>
          <a:noFill/>
          <a:ln w="57240">
            <a:solidFill>
              <a:srgbClr val="7030a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30880" y="417600"/>
            <a:ext cx="1073880" cy="1066680"/>
            <a:chOff x="4430880" y="417600"/>
            <a:chExt cx="1073880" cy="1066680"/>
          </a:xfrm>
        </p:grpSpPr>
        <p:sp>
          <p:nvSpPr>
            <p:cNvPr id="57" name="Text Box 7"/>
            <p:cNvSpPr/>
            <p:nvPr/>
          </p:nvSpPr>
          <p:spPr>
            <a:xfrm>
              <a:off x="443088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660033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3280" y="692280"/>
              <a:ext cx="18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Line 8"/>
          <p:cNvSpPr/>
          <p:nvPr/>
        </p:nvSpPr>
        <p:spPr>
          <a:xfrm>
            <a:off x="2519280" y="981000"/>
            <a:ext cx="10447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upo 4"/>
          <p:cNvGrpSpPr/>
          <p:nvPr/>
        </p:nvGrpSpPr>
        <p:grpSpPr>
          <a:xfrm>
            <a:off x="4500720" y="981000"/>
            <a:ext cx="1800000" cy="540000"/>
            <a:chOff x="4500720" y="981000"/>
            <a:chExt cx="1800000" cy="540000"/>
          </a:xfrm>
        </p:grpSpPr>
        <p:sp>
          <p:nvSpPr>
            <p:cNvPr id="61" name="Line 8"/>
            <p:cNvSpPr/>
            <p:nvPr/>
          </p:nvSpPr>
          <p:spPr>
            <a:xfrm flipH="1">
              <a:off x="4500720" y="981000"/>
              <a:ext cx="1800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500720" y="981000"/>
              <a:ext cx="0" cy="54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Line 8"/>
          <p:cNvSpPr/>
          <p:nvPr/>
        </p:nvSpPr>
        <p:spPr>
          <a:xfrm>
            <a:off x="2951280" y="2133720"/>
            <a:ext cx="54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255840" y="4581000"/>
            <a:ext cx="532080" cy="279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5796000" y="4437000"/>
            <a:ext cx="417600" cy="4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 por ej. piruvato y oxal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ángulo 2"/>
          <p:cNvSpPr/>
          <p:nvPr/>
        </p:nvSpPr>
        <p:spPr>
          <a:xfrm>
            <a:off x="4029120" y="5589720"/>
            <a:ext cx="7588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75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79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83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87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94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98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8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70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73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9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8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101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104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107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10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reaccione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903240" y="1484280"/>
            <a:ext cx="7628040" cy="662040"/>
            <a:chOff x="903240" y="1484280"/>
            <a:chExt cx="7628040" cy="662040"/>
          </a:xfrm>
        </p:grpSpPr>
        <p:sp>
          <p:nvSpPr>
            <p:cNvPr id="121" name="Rectangle 2"/>
            <p:cNvSpPr/>
            <p:nvPr/>
          </p:nvSpPr>
          <p:spPr>
            <a:xfrm>
              <a:off x="903240" y="148428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3"/>
            <p:cNvGrpSpPr/>
            <p:nvPr/>
          </p:nvGrpSpPr>
          <p:grpSpPr>
            <a:xfrm>
              <a:off x="4969440" y="1745640"/>
              <a:ext cx="683640" cy="142200"/>
              <a:chOff x="4969440" y="1745640"/>
              <a:chExt cx="683640" cy="142200"/>
            </a:xfrm>
          </p:grpSpPr>
          <p:sp>
            <p:nvSpPr>
              <p:cNvPr id="123" name="Line 4"/>
              <p:cNvSpPr/>
              <p:nvPr/>
            </p:nvSpPr>
            <p:spPr>
              <a:xfrm>
                <a:off x="4969440" y="174564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5"/>
              <p:cNvSpPr/>
              <p:nvPr/>
            </p:nvSpPr>
            <p:spPr>
              <a:xfrm>
                <a:off x="4969440" y="188676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6"/>
          <p:cNvSpPr/>
          <p:nvPr/>
        </p:nvSpPr>
        <p:spPr>
          <a:xfrm>
            <a:off x="519120" y="387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900000" y="2852640"/>
            <a:ext cx="7632720" cy="649440"/>
            <a:chOff x="900000" y="2852640"/>
            <a:chExt cx="7632720" cy="649440"/>
          </a:xfrm>
        </p:grpSpPr>
        <p:sp>
          <p:nvSpPr>
            <p:cNvPr id="128" name="Rectangle 9"/>
            <p:cNvSpPr/>
            <p:nvPr/>
          </p:nvSpPr>
          <p:spPr>
            <a:xfrm>
              <a:off x="900000" y="2852640"/>
              <a:ext cx="763272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H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5219640" y="3152880"/>
              <a:ext cx="655560" cy="133200"/>
              <a:chOff x="5219640" y="3152880"/>
              <a:chExt cx="655560" cy="133200"/>
            </a:xfrm>
          </p:grpSpPr>
          <p:sp>
            <p:nvSpPr>
              <p:cNvPr id="130" name="Line 11"/>
              <p:cNvSpPr/>
              <p:nvPr/>
            </p:nvSpPr>
            <p:spPr>
              <a:xfrm>
                <a:off x="5219640" y="315288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219640" y="328464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3"/>
          <p:cNvGrpSpPr/>
          <p:nvPr/>
        </p:nvGrpSpPr>
        <p:grpSpPr>
          <a:xfrm>
            <a:off x="909720" y="4638600"/>
            <a:ext cx="7323120" cy="448200"/>
            <a:chOff x="909720" y="4638600"/>
            <a:chExt cx="7323120" cy="448200"/>
          </a:xfrm>
        </p:grpSpPr>
        <p:sp>
          <p:nvSpPr>
            <p:cNvPr id="133" name="Rectangle 14"/>
            <p:cNvSpPr/>
            <p:nvPr/>
          </p:nvSpPr>
          <p:spPr>
            <a:xfrm>
              <a:off x="909720" y="463860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4168080" y="4782240"/>
              <a:ext cx="684000" cy="151560"/>
              <a:chOff x="4168080" y="4782240"/>
              <a:chExt cx="684000" cy="151560"/>
            </a:xfrm>
          </p:grpSpPr>
          <p:sp>
            <p:nvSpPr>
              <p:cNvPr id="135" name="Line 16"/>
              <p:cNvSpPr/>
              <p:nvPr/>
            </p:nvSpPr>
            <p:spPr>
              <a:xfrm>
                <a:off x="4168080" y="478224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4168080" y="493272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8"/>
          <p:cNvGrpSpPr/>
          <p:nvPr/>
        </p:nvGrpSpPr>
        <p:grpSpPr>
          <a:xfrm>
            <a:off x="890640" y="5769000"/>
            <a:ext cx="7858080" cy="662040"/>
            <a:chOff x="890640" y="5769000"/>
            <a:chExt cx="7858080" cy="662040"/>
          </a:xfrm>
        </p:grpSpPr>
        <p:sp>
          <p:nvSpPr>
            <p:cNvPr id="138" name="Rectangle 19"/>
            <p:cNvSpPr/>
            <p:nvPr/>
          </p:nvSpPr>
          <p:spPr>
            <a:xfrm>
              <a:off x="890640" y="576900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4940280" y="6059520"/>
              <a:ext cx="555480" cy="140760"/>
              <a:chOff x="4940280" y="6059520"/>
              <a:chExt cx="555480" cy="140760"/>
            </a:xfrm>
          </p:grpSpPr>
          <p:sp>
            <p:nvSpPr>
              <p:cNvPr id="140" name="Line 21"/>
              <p:cNvSpPr/>
              <p:nvPr/>
            </p:nvSpPr>
            <p:spPr>
              <a:xfrm>
                <a:off x="4940280" y="605952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2"/>
              <p:cNvSpPr/>
              <p:nvPr/>
            </p:nvSpPr>
            <p:spPr>
              <a:xfrm>
                <a:off x="4940280" y="619884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68360" y="5408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46836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b0f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b0f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57200" y="1397160"/>
            <a:ext cx="8229600" cy="4984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at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energía metabólica en forma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la mayor parte del CO</a:t>
            </a:r>
            <a:r>
              <a:rPr b="1" lang="es-E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citrato a partir del cual se obtiene el precursor para la síntesis de ácidos grasos (Acetil-Co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62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9-04T17:03:10Z</dcterms:modified>
  <cp:revision>75</cp:revision>
  <dc:subject/>
  <dc:title>Diapositiva 1</dc:title>
</cp:coreProperties>
</file>